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8BE7-3B8F-49CE-9AF4-E8FB3207F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27CF-70A6-4B2D-9BD4-29AB4771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F853-7A1D-4ECD-83A6-EB51DB6C1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35D5-479C-4A19-955E-7D63D373C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C42B-7BB3-4990-82DA-E45B9794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D9BF-9C2F-4C7C-B58A-FFFE4034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71CA-21E9-458C-B994-C83FC5FD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28F6-CADC-417E-9C77-F3B1951D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EDD6-3B30-4210-B064-CAD16123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F5FE-962D-4194-9C18-CA7A91F0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8E99-9882-46FE-89BD-843CB67B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3F14-05AC-4976-BDF4-4DFE917F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40F7-C3CA-49C7-8252-AA8A99CA5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romolecule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most common type of lip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glycerides (fa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other types of lipi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spholipids, waxes, ster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chemical components of a triglycer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ycerol + 3 fatty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ame of the bond that links these components toge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ster lin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ifference between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tur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satur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atty ac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urated fatty acids have no double bonds between carbon atoms;  have the maximum number of H atoms attached (are fully “saturated” with H ato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type of fat is usually solid at room tempera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urated f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make an unsaturated fat solid at room tempera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ge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functions of cholester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make hormones such as estrogen and testosterone; important part of cell mem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excess cholesterol cause probl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combine with other fats to form plaques that block blood vess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functional group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xy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O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xy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functional group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=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y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lfhydry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functional group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ology 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page 27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and name the functional groups in the molecule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gure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hyd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hydrate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ame of the reaction when when 2 monosaccharides attach to form a disacchar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hydration synthes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den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ame of the bond form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ycosidic lin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hydrate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2 polysaccharides that are used as energy stor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ch and glyc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2 polysaccharides that are used for structural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ulose and chi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17:34:16Z</dcterms:created>
  <dc:creator>rubina khan</dc:creator>
  <dc:description/>
  <dc:language>en-US</dc:language>
  <cp:lastModifiedBy>rubina khan</cp:lastModifiedBy>
  <dcterms:modified xsi:type="dcterms:W3CDTF">2011-09-15T17:56:43Z</dcterms:modified>
  <cp:revision>27</cp:revision>
  <dc:subject/>
  <dc:title>Carbohydrate Review</dc:title>
</cp:coreProperties>
</file>